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6FC-7F0C-400E-B6AA-D9BDF056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627-4DBA-4356-8EF0-E4235F4F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FA58-37A7-4AF3-BA9A-94B13687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44C7-FCCA-4AF4-A665-7465E9ED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EC4-0B20-4BCF-88CD-545B4E88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51F-9D06-416E-919D-787DB2B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48B-AAB3-46AB-B828-BB32512E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495-8E08-40C6-8D84-8638FDCD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AA7-FC5E-4703-94DF-CF29028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4E6-4F60-4120-B494-F963C23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A21-9B02-4F72-87F4-ED2841BC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B01-6756-40BA-9CCA-6C2C3F5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D6F-41CA-4DCD-85F8-14C0E38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445-B97F-4F56-95FD-C743C0B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83F-F2CA-4681-AF3E-C531BC0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F1E-CD9E-4FA8-ACBC-9591C50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61F-AB42-4EBD-977A-64FF253A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4-02-19T19:47:31Z</dcterms:modified>
  <cp:revision>17</cp:revision>
  <dc:subject/>
  <dc:title>Profile</dc:title>
</cp:coreProperties>
</file>